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9D01-4CDA-4E79-B889-B34C774E86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E03E-6E60-40A1-9DEE-FEAD19A2A5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1DE40-0031-4ACA-9AA7-A33A585B13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E1411-39E5-44C2-B381-19E411F663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DA5FE-C72B-4960-9708-83D0D38C0D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BB30B-4361-46E2-9E54-D59A518002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6CD2-25EE-4261-AF8E-F2C20592E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6BCC-3AB6-4640-BEDC-D6829225F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99D4-F1DE-4011-9E4E-7445D3194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D0BA-9E79-4C38-92BE-849AE7D6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FE0C-9E8F-447C-A0D9-217AC053B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E774-5F2C-46FE-AF96-0192F21C1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0B61-DE76-477B-BB4D-1CFC607BCA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050D-A66D-4900-8749-7E5E77FE20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264B-D964-430A-8792-F2C9BC7F02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BD70-3E09-4301-B262-E8F308675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0EB3-3B6E-4BC8-97B1-D5F59C68D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D844-F506-44CE-A354-62EE9CB3B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012F-9444-45BE-A556-DB41A7664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22B6-D55E-4A11-AE4B-AC051F240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BF66-1853-4430-B1DD-32F0847AD6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232D-D62D-44C5-B21B-43B167C2E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3803-9F3B-4109-BD53-9EFED8CD8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F92C-3E3C-4103-A5F7-E2B15CC7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BFA7-906F-4245-9161-EC2292B95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198F-4053-4961-9F67-E360C2534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7115-1822-4491-A4BE-41B56298C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E084-21DA-4191-9A33-208D45CFA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7D24-3FE4-4C9C-BC8D-4D775F6F4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958B-57AA-4991-B6C6-043009257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A22C6B-CEF5-44BB-B63B-4493AD10D270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2C806323-CD95-4BDB-AC77-B122F15F1534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2E0C4A-D44C-4B2D-8166-85CAF3DE6DAE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7264E45B-1979-4CA7-A140-E61F2DF9A42B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9 september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gegevens bron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772320" cy="305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2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Structuur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.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Gebruik EA prof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Aanleiding &amp; uitgangspunt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Harmonisatie STUF NEN3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78595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714680" y="285840"/>
            <a:ext cx="661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meta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2"/>
          <p:cNvSpPr/>
          <p:nvPr/>
        </p:nvSpPr>
        <p:spPr>
          <a:xfrm>
            <a:off x="714240" y="2071800"/>
            <a:ext cx="76438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Een model van een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is een model gemaakt op een ho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bstractie niveau die de regels en construc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(syntax en semantiek) van het onderliggen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model aangeef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hoek 64"/>
          <p:cNvSpPr/>
          <p:nvPr/>
        </p:nvSpPr>
        <p:spPr>
          <a:xfrm>
            <a:off x="3786120" y="1143000"/>
            <a:ext cx="12146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65"/>
          <p:cNvSpPr/>
          <p:nvPr/>
        </p:nvSpPr>
        <p:spPr>
          <a:xfrm>
            <a:off x="6000840" y="114300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66"/>
          <p:cNvSpPr/>
          <p:nvPr/>
        </p:nvSpPr>
        <p:spPr>
          <a:xfrm>
            <a:off x="1214280" y="1143000"/>
            <a:ext cx="857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el 1"/>
          <p:cNvSpPr/>
          <p:nvPr/>
        </p:nvSpPr>
        <p:spPr>
          <a:xfrm>
            <a:off x="1571760" y="21420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276960" cy="50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el 1"/>
          <p:cNvSpPr/>
          <p:nvPr/>
        </p:nvSpPr>
        <p:spPr>
          <a:xfrm>
            <a:off x="164304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&amp;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formatie model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Harmen Mantel</cp:lastModifiedBy>
  <dcterms:modified xsi:type="dcterms:W3CDTF">2010-10-20T05:26:30Z</dcterms:modified>
  <cp:revision>15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